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D97-5C6D-44CF-BF53-765FADE5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1BF-82C2-425C-9A29-6A4B025D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789-44EE-47B0-84A0-4F0222FC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66D-5765-43F6-BB49-676C00CE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4B3-5175-4C84-9BCA-5C74D39B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125-767C-438C-B202-EC341D42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5EA-09EA-4CBD-80CB-81DB7623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CF0-AB89-476C-9550-46EDBDE5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D5A-FA32-43E4-A6F5-B58A8727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1BA-A28C-4898-8A9E-8E6A03B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5B2-6E83-412A-AFD4-8CB9D03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F0A-9342-4B5A-8685-302F6A4E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1436-567E-48ED-8A01-E1814446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Condensed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8088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 Condensed"/>
              </a:rPr>
              <a:t>Kaley Brudner Presen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ench Script MT"/>
              </a:rPr>
              <a:t>Para el Desayuno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ench Script MT"/>
              </a:rPr>
              <a:t>Los Huevos con Q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167652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648320"/>
            <a:ext cx="2590920" cy="1725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40384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962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nch Script MT"/>
              </a:rPr>
              <a:t>El To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2800080" cy="1765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nch Script MT"/>
              </a:rPr>
              <a:t>El 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267080" y="5029200"/>
            <a:ext cx="2210040" cy="165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24280" y="4495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nch Script MT"/>
              </a:rPr>
              <a:t>Las Fru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162920" y="3657600"/>
            <a:ext cx="1847880" cy="247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8880" y="63244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rench Script MT"/>
              </a:rPr>
              <a:t>La zumo de na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bca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doni PosterCompressed"/>
              </a:rPr>
              <a:t>Para  el  Almuerzo  me  gusta  comer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PosterCompressed"/>
              </a:rPr>
              <a:t>El  Hot 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700360" cy="1796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2900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PosterCompressed"/>
              </a:rPr>
              <a:t>Las  Papas  F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38098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doni PosterCompressed"/>
              </a:rPr>
              <a:t>El  botido  de 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62720" y="4862520"/>
            <a:ext cx="1981080" cy="180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772400" y="6324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doni PosterCompressed"/>
              </a:rPr>
              <a:t>El  bocad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086600" y="1676520"/>
            <a:ext cx="171468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96080" y="12952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1295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doni PosterCompressed"/>
              </a:rPr>
              <a:t>las  Zanah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 Ext Condensed Bold"/>
              </a:rPr>
              <a:t>Para la Cena me gusta comer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 Ext Condensed Bold"/>
              </a:rPr>
              <a:t>La Ca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2476800" cy="185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76520" y="3886200"/>
            <a:ext cx="3429000" cy="2857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4952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 Ext Condensed Bold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Gill Sans MT Ext Condensed Bold"/>
              </a:rPr>
              <a:t>maí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419720" y="1752480"/>
            <a:ext cx="2666880" cy="1860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162920" y="2438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 Ext Condensed Bold"/>
              </a:rPr>
              <a:t>El Arr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257800" y="3809880"/>
            <a:ext cx="2781360" cy="1852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153280" y="4419720"/>
            <a:ext cx="76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 Ext Condensed Bold"/>
              </a:rPr>
              <a:t>El Pes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238880" y="5851440"/>
            <a:ext cx="1676520" cy="100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15000" y="6248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 Ext Condensed Bold"/>
              </a:rPr>
              <a:t>Una Coca-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4e0ae"/>
                </a:solidFill>
                <a:latin typeface="Script MT Bold"/>
              </a:rPr>
              <a:t>El Po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4e0ae"/>
                </a:solidFill>
                <a:latin typeface="Script MT Bold"/>
              </a:rPr>
              <a:t>El Mousse de 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2590560" cy="244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05320" y="51814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e0ae"/>
                </a:solidFill>
                <a:latin typeface="Script MT Bold"/>
              </a:rPr>
              <a:t>El Helado de 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581280" y="2362320"/>
            <a:ext cx="2743200" cy="1771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267080" y="44956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4e0ae"/>
                </a:solidFill>
                <a:latin typeface="Script MT Bold"/>
              </a:rPr>
              <a:t>El Gall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791320" y="5105520"/>
            <a:ext cx="2400120" cy="1596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248520" y="43434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4e0ae"/>
                </a:solidFill>
                <a:latin typeface="Script MT Bold"/>
              </a:rPr>
              <a:t>fresas cubiertas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629400" y="1066680"/>
            <a:ext cx="2008080" cy="299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53080" y="457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0ae"/>
                </a:solidFill>
                <a:latin typeface="Script MT Bold"/>
              </a:rPr>
              <a:t>La Leche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cbf9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illSans Condensed"/>
              </a:rPr>
              <a:t>La  Meri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133360" cy="156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2133360" cy="1904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371600" cy="123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38680" y="2057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 Condensed"/>
              </a:rPr>
              <a:t>El Cheez-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 Condensed"/>
              </a:rPr>
              <a:t>Los Dor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59436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 Condensed"/>
              </a:rPr>
              <a:t>Las manz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880" y="2209680"/>
            <a:ext cx="1781280" cy="256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5029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 Condensed"/>
              </a:rPr>
              <a:t>El Jugo de </a:t>
            </a:r>
            <a:r>
              <a:rPr b="0" lang="es-ES" sz="1800" spc="-1" strike="noStrike">
                <a:solidFill>
                  <a:srgbClr val="ffffff"/>
                </a:solidFill>
                <a:latin typeface="Gill Sans MT Condensed"/>
              </a:rPr>
              <a:t>arándano ag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1055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42:15Z</dcterms:created>
  <dc:creator>brudnerkal</dc:creator>
  <dc:description/>
  <dc:language>en-US</dc:language>
  <cp:lastModifiedBy>brudnerkal</cp:lastModifiedBy>
  <dcterms:modified xsi:type="dcterms:W3CDTF">2012-04-04T14:42:34Z</dcterms:modified>
  <cp:revision>4</cp:revision>
  <dc:subject/>
  <dc:title>Las Comidas</dc:title>
</cp:coreProperties>
</file>